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B7D-7C59-4047-90C4-9A25122A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C5A-FD5D-41BF-9450-B3275C13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7A3-3062-453C-B4C9-0B552678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46F-6A97-4008-8340-01CB1669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A8A-BF46-4BF3-A7BE-819D2C8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547-681B-4DCF-8CCB-0581956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A31-A17B-418C-A2FA-2BFF80D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B01-69A6-4095-91D3-5A70C07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028-8DFC-46A7-A9B9-B20911B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943-C992-4AB7-AE44-33F5E01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B75-B874-4E7A-985D-CDFE91A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8A4-CD70-4B3B-9FA7-CD415BFA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B3A-D12E-4B1F-8D84-FD9FC1C0A9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 will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λειονες στρατιωται ἐρ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ερι τίνων εἰπ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are you (pl.)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9-03-03T21:39:49Z</dcterms:modified>
  <cp:revision>36</cp:revision>
  <dc:subject/>
  <dc:title>Slide 1</dc:title>
</cp:coreProperties>
</file>